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commentAuthors.xml><?xml version="1.0" encoding="utf-8"?>
<p:cmAuthorLst xmlns:p="http://schemas.openxmlformats.org/presentationml/2006/main">
  <p:cmAuthor id="0" name="thierry" initials="t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<Relationship Id="rId36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04-11-09T18:21:38.734000000" idx="1">
    <p:pos x="5250" y="1286"/>
    <p:text>adotada em Genebra dia 9 de dezembro de 1923.
objetivo principal : estabelecer normas que permitissem aos Estados interessados negociar e chegar a um acordo, superando os problemas decorrentes das diferenças de legislações nacionais em matéria de instalações hidrelétricas. 
art. 2: para a utilização racional da forças hidráulicas, os Estados envolvidos deverão submeter-se a um estudo internacional. 
art. 5: deverá ser feita abstração de toda e qualquer fronteira política para a adoção das soluções técnicas as mais apropriadas.
Durante a Sétima Conferência pan-americana (Montevidéu - 1933), o delegado argentino, Isidore Huiz MORENO, apresentou um projeto de convenção no qual adaptava a Convenção de Genebra para as Américas. 
O projeto mantinha os dispositivos essenciais do tratado de Genebra, com pequenas alterações.</p:text>
  </p:cm>
</p:cmLst>
</file>

<file path=ppt/comments/comment9.xml><?xml version="1.0" encoding="utf-8"?>
<p:cmLst xmlns:p="http://schemas.openxmlformats.org/presentationml/2006/main">
  <p:cm authorId="0" dt="2004-11-09T18:01:49.107000000" idx="2">
    <p:pos x="5240" y="2700"/>
    <p:text>Os rios internacionais seriam navegáveis até o mar aberto "eles são chamados de itnernacionais pois, para os navios mercantes, a liberdade de navegação em tempos de paz é reconhecida pelo direito internacional convencional". - L. Openheim - International Law, a Treatise, tomo 1º 8a ed., Longmans, Greens and Co., 1955 pg 465.</p:text>
  </p:cm>
  <p:cm authorId="0" dt="2004-11-09T18:18:06.918000000" idx="3">
    <p:pos x="5240" y="2961"/>
    <p:text>1894 e 1895 o Mexico protestou contra derivações das águas do Rio Grande para fins irrigação e abastecimento do lado americano (fundamentaram-se no direito conventcional - Tratado de Guadalupe Hidalgo, de 1848 - art 7º estipulava que nenhuma das partes poderia, sem o consentimento da outra, contruir obras suscetíveios de incomodar ou interromper a, em todo ou em parte, o exercício do dto de navegação . Tb se fundamentaram no prinsípio do prior use appropriation. J. HARMON l'Attorney General elavorou parecer defendendo a liberdade dos EUA em dispor unilateralmente e sem ter que prestar contas a ninguem de das águas do rio Grande correndo em seu território. Ele se apoia não em uma regra de dto internacinalmas numa lacuna de direito, sendo que a regra é a da soberania absoluta de toda Nação sobre o seu território)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ECDF-2BBA-4DC9-B31C-9F83D7E1EAE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66760" y="73008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77" name=""/>
          <p:cNvGraphicFramePr/>
          <p:nvPr/>
        </p:nvGraphicFramePr>
        <p:xfrm>
          <a:off x="701640" y="4414680"/>
          <a:ext cx="5607000" cy="4184640"/>
        </p:xfrm>
        <a:graphic>
          <a:graphicData uri="http://schemas.openxmlformats.org/drawingml/2006/table">
            <a:tbl>
              <a:tblPr/>
              <a:tblGrid>
                <a:gridCol w="4784760"/>
                <a:gridCol w="822240"/>
              </a:tblGrid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Colô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Bolí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Uru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Para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Gu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Guiana Franc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Colômbia - 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Venezuela - Colô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C70-D059-465F-800A-64E7AD28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58C-937A-47B3-ADA2-D86B7BE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BEE-B688-4F56-BB02-9AB0173A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B68-FC05-41A5-B0E4-D48F247A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AA6-3EF1-467D-9F6B-0244AA7B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3DF-3B33-4AC7-94D3-D377C82C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6A1-F400-4442-AD3C-D2A27581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484-ED93-4966-8EDD-B6D37AFF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6CA-5C24-4B21-B6E8-CC775308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306-6086-45EC-864D-A6A18558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865-73D6-4322-9D0F-3332A7B3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82D-FACA-40C3-8F00-112F80CC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119A-0B9F-41A8-95AD-929B8EFE8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BR" sz="3200" spc="-1" strike="noStrike">
                <a:solidFill>
                  <a:srgbClr val="3333cc"/>
                </a:solidFill>
                <a:latin typeface="Times New Roman"/>
              </a:rPr>
              <a:t>Conceitos Gerais e Aspectos Fundamentais da Gestão de Recursos Hídricos Transfronteiriç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lguns</a:t>
            </a:r>
            <a:r>
              <a:rPr b="0" lang="pt-BR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Conceitos e evolução do direit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Convenção de Nova Iorque d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Convenção de Helsinque de 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Diretiva 2000/60/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studo de caso: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1600" y="3293640"/>
              <a:ext cx="175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PORTO PRIMA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8520" y="45306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ROSA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4320" y="3918600"/>
              <a:ext cx="0" cy="247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75680" y="3854880"/>
              <a:ext cx="165600" cy="163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99040" y="3596760"/>
              <a:ext cx="1250280" cy="313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376800" y="4127400"/>
              <a:ext cx="251280" cy="4359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6760" y="3183840"/>
              <a:ext cx="162720" cy="1659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320" y="2014920"/>
              <a:ext cx="86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JUP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7640" y="2351880"/>
              <a:ext cx="1864080" cy="7959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55040" y="5334120"/>
              <a:ext cx="248400" cy="10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0200" y="5551200"/>
              <a:ext cx="44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R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502640" y="5428800"/>
              <a:ext cx="874800" cy="3387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333360"/>
            <a:ext cx="5410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00"/>
                </a:solidFill>
                <a:uFillTx/>
                <a:latin typeface="Arial"/>
              </a:rPr>
              <a:t>BACIA DO PARA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Convenção das Nações Unidas sobre o direito relativo às utilizações dos cursos d'água internacionais para fins outros que a nave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ts val="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otada em 21 de maio de 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difica princípios já reconhecidos pelo D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elator: Richard D. Kearney, nomeado em 197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latório apresentado em 1976, elaborado com base em um questionário enviado aos Estados membros das Nações Un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brange todos os usos das águas outros que a naveg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idera a água em todo o seu cicl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o art. 2º defin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« curso d’água » com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um sistema de águas superficiais e subterrâneas que constituem, por causa de suas relações físicas, um sistema unitário e que desemboca, normalmente, em um ponto de chegada comum)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ta-se de uma Convenção quadro, que deve servir de guia para que os Estados concluam “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cordos de cursos de águ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vê que todo Estado que faça parte do curso d’água (da bacia) tem o direito de participar das negociações de todo acordo referente ao curso d’águ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a troca regular de dados e informações entre os Estados dos cursos d’águ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a notificação das medidas projetadas podendo acarretar um efeito negativo  sobre outros Estados do curso d’águ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que todo Estado que faça parte do curso d’água (da bacia) tem o direito de participar das negociações de todo acordo referente ao curso d’águ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ratificada por 12 Estad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África do Sul, Finlândia, Hungria, Iraque, Jordânia, Líbano, Namíbia, Noruega, Países Baixos, Quatar, Síria e Sué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ssinada por outros 8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emanha, Costa do Marfim, Luxemburgo, Paraguai, Portugal, Tunísia, Venezuela e Iê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plicaçã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IJ - Caso de Gabcikovo-Nagyma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§ 147 da sentença promulgada em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de setembro de 1997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5º: Os Estados de um curso d’água participam da utilização, da valorização e da proteção de um curso d’água internacional de forma eqüitativa e razoável. Esta participação abrange tanto o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de utilizar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curso d’água quanto o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r de cooperar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sua proteção e valorização, de acordo com o previsto nos presentes artigos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otada em Helsinque, aos 17 de março de 1992, (Fórum de adoção: Comissão Econômica das Nações Unidas para a Europa)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rou em vigor em 6 de outubro de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1º: águas transfronteiriças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ão todas as águas superficiais e subterrâneas  que definem a fronteira entre dois ou mais Estados, os atravessam ou se situam sobre essas fronteir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[...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impõe um modelo de órgão de gestão (art. 1º, item 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ota os princípios da precaução (art. 2º, item 5, “a”) e do poluidor-pagador (art. 2º, item 5, “b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vê a elaboração de programas comuns de monitoramento qualitativo e quantitativo das águas de bacias transfronteiriç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lguns</a:t>
            </a:r>
            <a:r>
              <a:rPr b="0" lang="pt-BR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d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funda desigualdade na distribuição do recurso: &lt; de 10 países detêm 60% do total da água doce no mun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Brasil: encabeça a lista desses países, com 5.670 km</a:t>
            </a:r>
            <a:r>
              <a:rPr b="0" lang="pt-BR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de água por a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ferenças com relação à Conv. d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á ênfase à proteção dos rios internacion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ia procedimentos (revisão) e instituições (COP a cada 3 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taura um sistema flexível de “ajuste” e assegura a comunicação constante entre as Parte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tuação anter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retivas esparsas e pontuais sobre diversos temas (emissão de efluentes; fixação de objetivos de qualidade das águas; conservação das águas subterrân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ncipal objetivo: estabelecer um enquadramento para a proteção das águas de superfície interiores, das águas de transição, das águas costeiras e das águas subterrân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pleta as diretivas ex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armoniza as modalidades de gestão das águas em todos os países da 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conhece a bacia hidrográfica como unidade de gest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igo 13. Planos de gestão de bacia hidrográfica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s Estados-Membros garantirão a elaboração de um plano de gestão de bacia hidrográfica, para cada região hidrográfica inteiramente situada no seu territóri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o caso de um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gião hidrográfica internacional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inteiramente situada no território da Comunidade, os Estados-Membros assegurarão a coordenação entre si, com o objetivo de realizar um único plano de gestão de bacia hidrográfica internac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[..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 No caso de uma região hidrográfica internacional que ultrapasse as fronteiras da Comunidade, os Estados-Membros esforçar-se-ão por elaborar um único plano de gestão de bacia hidrográfica; se tal não for possível, o plano deve abranger, pelo menos, a parte da região hidrográfica internacional situada no território do Estado-Membro em questão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studo de caso: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ncipais fontes de degrad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jeito de poluentes (metais pesados e fósforo) de indústrias químic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mento da salinidade (minas de Potássi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uição térmic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uição decorrente de acidentes industr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00360" y="260280"/>
            <a:ext cx="5607000" cy="640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dro juríd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868: Convenção de Mannheim (navegaçã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0: Comissão Internacional para a proteção do Reno contra a Polui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6: Convenção para a proteção do Reno contra a poluição química (vigor em 1979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venção para a proteção do Reno contra os cloretos (vigor 198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91: Protocolo adicional à Convenção para a proteção do Reno contra os clore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86: acidente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and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87: Programa de Ação para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ire de la Commission de Droit Internat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9, vol. II (1a parte), p. 151 (doc. A/CN.4/3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Kiss; D. Shelton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té de Droit Européen de l’Environnemen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ris, Frison Roche, 1995, 554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T. Calasans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cept de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source naturelle partagée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ux ressources en eau: l' exemple de l' Amérique du Su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sses Universitaires du Septentrion, Villeneuve d’Ascq, 1998, 463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. Caubet: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grandes manobras de Itaipu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Ed. Acadêmica, 1991, 385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A. Colliard: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it fluvial international : les problèmes actuels de ressources en eau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. roum. E.I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XXII, 1988, pp. 158-16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lguns d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 acordo com a ONU existem 163 bacias fluviais compartilhadas, que ocupam 47% da superfície terrestre (excluída a Antarctica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4 países possuem, no mínimo, 80% de seu território no interior de uma bacia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MARGAT: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partition des ressources et des demandes en eau dans le monde: disparités présentes et fu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Société Hydrotechnique de France, 22èmes Journées de l'hydraulique, 13/15 de setembro de 199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avenir de l'e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Houille Blanche — Revue internationale de l'eau, n° 4, 1993, pp. 215-22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MARGAT &amp; Jean-Robert Tiercelin: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au en questions - Enjeu du XXIe siè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, Ed. Romillat, Paris, 1998, 301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ques SIRRONEA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au, enjeu stratégique mondi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Paris, Économica, 1996, 112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o F. S. SOARES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Internacional do Meio Ambiente – emergências, obrigações e responsabilidad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Atlas, São Paulo, 2003, 906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3333cc"/>
                </a:solidFill>
                <a:latin typeface="Times New Roman"/>
              </a:rPr>
              <a:t>Jorge Thierry Calas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3573360"/>
            <a:ext cx="79232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ANA – Superintendência de Outorga e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Tel: 061-2109.52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E-mail: thierry@ana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7720" y="320040"/>
            <a:ext cx="84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INCIPAIS BACIAS HIDROGRÁFICAS COMPARTILHADAS NA AMÉRICA DO S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(fonte : </a:t>
            </a:r>
            <a:r>
              <a:rPr b="0" i="1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Los recursos hidricos de America Latina y el Caribe y su aprovechamiento</a:t>
            </a: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 — </a:t>
            </a:r>
            <a:r>
              <a:rPr b="0" i="1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Estudos e informes de la CEPAL</a:t>
            </a: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 — Naciones Unidas — Santiago, Chile, 1985, p.p. 92-93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92280"/>
          <a:ext cx="4752720" cy="6173280"/>
        </p:xfrm>
        <a:graphic>
          <a:graphicData uri="http://schemas.openxmlformats.org/drawingml/2006/table">
            <a:tbl>
              <a:tblPr/>
              <a:tblGrid>
                <a:gridCol w="1803240"/>
                <a:gridCol w="1957320"/>
                <a:gridCol w="992160"/>
              </a:tblGrid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 que a compartil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Colombia/Equador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/Venezuela/Bolivia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/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59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 Anacu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 Aysen-Simp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 Baker-Lagos B. Aires-Puer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 Bar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 Calle Calle-Hua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 Canco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 Catatum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 Ch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 Chira-Cata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 Ciake-Ch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 Cosap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 Couranty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 Cu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 Essequi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 Gr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 Jurad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Panam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 </a:t>
                      </a:r>
                      <a:r>
                        <a:rPr b="0" lang="es-ES_tradnl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fr-FR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fície unicamente em território Colombiano</a:t>
                      </a:r>
                      <a:r>
                        <a:rPr b="0" lang="es-ES_tradnl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 Lago Fagn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- Laguna Blan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 Lau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- Mar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Francesa &amp; 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076720" y="692280"/>
          <a:ext cx="4067280" cy="617508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042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 que a compartil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 M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- Lagoa Mir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amp; 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 Oiap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Francesa &amp;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 Orin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 Pascura-Lagos San Marún-M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- Pa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Eq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- Penit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- Puelo-Ma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Rio da Pr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ívia/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Argentina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i/Urugu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 San Mar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- Serrano-Vizcahos-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ller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- Lagos Titicaca &amp; Poop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/Chile/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.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- Todos los Sa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 Tumbas-Puya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 Yelcho-Futaleufú-P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- Zarum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- Zu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505720" y="533520"/>
            <a:ext cx="638280" cy="228600"/>
          </a:xfrm>
          <a:prstGeom prst="wedgeRectCallout">
            <a:avLst>
              <a:gd name="adj1" fmla="val -64925"/>
              <a:gd name="adj2" fmla="val 2277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Oiapo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57200"/>
            <a:ext cx="428400" cy="228600"/>
          </a:xfrm>
          <a:prstGeom prst="wedgeRectCallout">
            <a:avLst>
              <a:gd name="adj1" fmla="val -247777"/>
              <a:gd name="adj2" fmla="val 181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533520"/>
            <a:ext cx="495360" cy="228600"/>
          </a:xfrm>
          <a:prstGeom prst="wedgeRectCallout">
            <a:avLst>
              <a:gd name="adj1" fmla="val -378847"/>
              <a:gd name="adj2" fmla="val 24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acut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419720" y="1371600"/>
            <a:ext cx="504720" cy="228600"/>
          </a:xfrm>
          <a:prstGeom prst="wedgeRectCallout">
            <a:avLst>
              <a:gd name="adj1" fmla="val -46226"/>
              <a:gd name="adj2" fmla="val 202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990720"/>
            <a:ext cx="503280" cy="228600"/>
          </a:xfrm>
          <a:prstGeom prst="wedgeRectCallout">
            <a:avLst>
              <a:gd name="adj1" fmla="val -91324"/>
              <a:gd name="adj2" fmla="val 265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u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635040" cy="228600"/>
          </a:xfrm>
          <a:prstGeom prst="wedgeRectCallout">
            <a:avLst>
              <a:gd name="adj1" fmla="val 19999"/>
              <a:gd name="adj2" fmla="val 256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ocandir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990720"/>
            <a:ext cx="723960" cy="228600"/>
          </a:xfrm>
          <a:prstGeom prst="wedgeRectCallout">
            <a:avLst>
              <a:gd name="adj1" fmla="val 89472"/>
              <a:gd name="adj2" fmla="val 269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Macap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066680"/>
            <a:ext cx="495360" cy="228600"/>
          </a:xfrm>
          <a:prstGeom prst="wedgeRectCallout">
            <a:avLst>
              <a:gd name="adj1" fmla="val 221152"/>
              <a:gd name="adj2" fmla="val 24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ç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1219320"/>
            <a:ext cx="761760" cy="228600"/>
          </a:xfrm>
          <a:prstGeom prst="wedgeRectCallout">
            <a:avLst>
              <a:gd name="adj1" fmla="val 247291"/>
              <a:gd name="adj2" fmla="val 19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Jarauaetê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533520" y="1371600"/>
            <a:ext cx="555480" cy="228600"/>
          </a:xfrm>
          <a:prstGeom prst="wedgeRectCallout">
            <a:avLst>
              <a:gd name="adj1" fmla="val 484000"/>
              <a:gd name="adj2" fmla="val 1861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aup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228600" y="1676520"/>
            <a:ext cx="487440" cy="228600"/>
          </a:xfrm>
          <a:prstGeom prst="wedgeRectCallout">
            <a:avLst>
              <a:gd name="adj1" fmla="val 612541"/>
              <a:gd name="adj2" fmla="val 1236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pu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981080"/>
            <a:ext cx="609480" cy="228600"/>
          </a:xfrm>
          <a:prstGeom prst="wedgeRectCallout">
            <a:avLst>
              <a:gd name="adj1" fmla="val 510675"/>
              <a:gd name="adj2" fmla="val 111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hamb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0" y="2286000"/>
            <a:ext cx="487440" cy="228600"/>
          </a:xfrm>
          <a:prstGeom prst="wedgeRectCallout">
            <a:avLst>
              <a:gd name="adj1" fmla="val 656189"/>
              <a:gd name="adj2" fmla="val -1055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iqui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90920"/>
            <a:ext cx="485640" cy="228600"/>
          </a:xfrm>
          <a:prstGeom prst="wedgeRectCallout">
            <a:avLst>
              <a:gd name="adj1" fmla="val 687254"/>
              <a:gd name="adj2" fmla="val -1263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raí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0" y="2895480"/>
            <a:ext cx="620640" cy="228600"/>
          </a:xfrm>
          <a:prstGeom prst="wedgeRectCallout">
            <a:avLst>
              <a:gd name="adj1" fmla="val 532865"/>
              <a:gd name="adj2" fmla="val -18472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aquet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00400"/>
            <a:ext cx="417600" cy="228600"/>
          </a:xfrm>
          <a:prstGeom prst="wedgeRectCallout">
            <a:avLst>
              <a:gd name="adj1" fmla="val 813879"/>
              <a:gd name="adj2" fmla="val -2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u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581280"/>
            <a:ext cx="738360" cy="228600"/>
          </a:xfrm>
          <a:prstGeom prst="wedgeRectCallout">
            <a:avLst>
              <a:gd name="adj1" fmla="val 430861"/>
              <a:gd name="adj2" fmla="val -3555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unh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7" action="ppaction://hlinksldjump"/>
          </p:cNvPr>
          <p:cNvSpPr/>
          <p:nvPr/>
        </p:nvSpPr>
        <p:spPr>
          <a:xfrm>
            <a:off x="0" y="4495680"/>
            <a:ext cx="426960" cy="228600"/>
          </a:xfrm>
          <a:prstGeom prst="wedgeRectCallout">
            <a:avLst>
              <a:gd name="adj1" fmla="val 589032"/>
              <a:gd name="adj2" fmla="val 13263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uru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86400"/>
            <a:ext cx="676440" cy="228600"/>
          </a:xfrm>
          <a:prstGeom prst="wedgeRectCallout">
            <a:avLst>
              <a:gd name="adj1" fmla="val 380518"/>
              <a:gd name="adj2" fmla="val -216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Env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800600"/>
            <a:ext cx="868320" cy="228600"/>
          </a:xfrm>
          <a:prstGeom prst="wedgeRectCallout">
            <a:avLst>
              <a:gd name="adj1" fmla="val 282541"/>
              <a:gd name="adj2" fmla="val 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achoe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248520"/>
            <a:ext cx="868320" cy="228600"/>
          </a:xfrm>
          <a:prstGeom prst="wedgeRectCallout">
            <a:avLst>
              <a:gd name="adj1" fmla="val 315263"/>
              <a:gd name="adj2" fmla="val -581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Sta. Ro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867280"/>
            <a:ext cx="797040" cy="228600"/>
          </a:xfrm>
          <a:prstGeom prst="wedgeRectCallout">
            <a:avLst>
              <a:gd name="adj1" fmla="val 323305"/>
              <a:gd name="adj2" fmla="val -3840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Riozinh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105520"/>
            <a:ext cx="1400040" cy="228600"/>
          </a:xfrm>
          <a:prstGeom prst="wedgeRectCallout">
            <a:avLst>
              <a:gd name="adj1" fmla="val 153967"/>
              <a:gd name="adj2" fmla="val -59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achoeira Progr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6629400"/>
            <a:ext cx="457200" cy="228600"/>
          </a:xfrm>
          <a:prstGeom prst="wedgeRectCallout">
            <a:avLst>
              <a:gd name="adj1" fmla="val 171875"/>
              <a:gd name="adj2" fmla="val -639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Y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6629400"/>
            <a:ext cx="792360" cy="228600"/>
          </a:xfrm>
          <a:prstGeom prst="wedgeRectCallout">
            <a:avLst>
              <a:gd name="adj1" fmla="val 202106"/>
              <a:gd name="adj2" fmla="val -6562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hambir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629400"/>
            <a:ext cx="609480" cy="228600"/>
          </a:xfrm>
          <a:prstGeom prst="wedgeRectCallout">
            <a:avLst>
              <a:gd name="adj1" fmla="val 412759"/>
              <a:gd name="adj2" fmla="val -69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handle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6040" y="4495680"/>
            <a:ext cx="726840" cy="228600"/>
          </a:xfrm>
          <a:prstGeom prst="wedgeRectCallout">
            <a:avLst>
              <a:gd name="adj1" fmla="val -177731"/>
              <a:gd name="adj2" fmla="val 20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iohos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809880"/>
            <a:ext cx="685800" cy="228600"/>
          </a:xfrm>
          <a:prstGeom prst="wedgeRectCallout">
            <a:avLst>
              <a:gd name="adj1" fmla="val -139351"/>
              <a:gd name="adj2" fmla="val 4958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humbu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2743200" y="4114800"/>
            <a:ext cx="457200" cy="228600"/>
          </a:xfrm>
          <a:prstGeom prst="wedgeRectCallout">
            <a:avLst>
              <a:gd name="adj1" fmla="val 70138"/>
              <a:gd name="adj2" fmla="val 29791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ur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6629400"/>
            <a:ext cx="533160" cy="228600"/>
          </a:xfrm>
          <a:prstGeom prst="wedgeRectCallout">
            <a:avLst>
              <a:gd name="adj1" fmla="val 205060"/>
              <a:gd name="adj2" fmla="val -648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bunã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6629400"/>
            <a:ext cx="609480" cy="228600"/>
          </a:xfrm>
          <a:prstGeom prst="wedgeRectCallout">
            <a:avLst>
              <a:gd name="adj1" fmla="val 173958"/>
              <a:gd name="adj2" fmla="val -497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mor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9" action="ppaction://hlinksldjump"/>
          </p:cNvPr>
          <p:cNvSpPr/>
          <p:nvPr/>
        </p:nvSpPr>
        <p:spPr>
          <a:xfrm>
            <a:off x="4267080" y="6629400"/>
            <a:ext cx="609840" cy="228600"/>
          </a:xfrm>
          <a:prstGeom prst="wedgeRectCallout">
            <a:avLst>
              <a:gd name="adj1" fmla="val 75000"/>
              <a:gd name="adj2" fmla="val -4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Guapor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343400"/>
            <a:ext cx="609840" cy="228600"/>
          </a:xfrm>
          <a:prstGeom prst="wedgeRectCallout">
            <a:avLst>
              <a:gd name="adj1" fmla="val -165365"/>
              <a:gd name="adj2" fmla="val 3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de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0" action="ppaction://hlinksldjump"/>
          </p:cNvPr>
          <p:cNvSpPr/>
          <p:nvPr/>
        </p:nvSpPr>
        <p:spPr>
          <a:xfrm>
            <a:off x="0" y="3886200"/>
            <a:ext cx="609480" cy="228600"/>
          </a:xfrm>
          <a:prstGeom prst="wedgeRectCallout">
            <a:avLst>
              <a:gd name="adj1" fmla="val 457291"/>
              <a:gd name="adj2" fmla="val -2645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olimõ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1" action="ppaction://hlinksldjump"/>
          </p:cNvPr>
          <p:cNvSpPr/>
          <p:nvPr/>
        </p:nvSpPr>
        <p:spPr>
          <a:xfrm>
            <a:off x="0" y="4191120"/>
            <a:ext cx="533520" cy="228600"/>
          </a:xfrm>
          <a:prstGeom prst="wedgeRectCallout">
            <a:avLst>
              <a:gd name="adj1" fmla="val 440476"/>
              <a:gd name="adj2" fmla="val -25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av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ios Fronteiriços e Transfronteiriços com 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contrast="30000"/>
          </a:blip>
          <a:srcRect l="27888" t="20064" r="5450" b="1308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ios Fronteiriços e Transfronteiriços com 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495360" cy="228600"/>
          </a:xfrm>
          <a:prstGeom prst="wedgeRectCallout">
            <a:avLst>
              <a:gd name="adj1" fmla="val 251921"/>
              <a:gd name="adj2" fmla="val 173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ur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838080"/>
            <a:ext cx="609840" cy="228600"/>
          </a:xfrm>
          <a:prstGeom prst="wedgeRectCallout">
            <a:avLst>
              <a:gd name="adj1" fmla="val 290625"/>
              <a:gd name="adj2" fmla="val 19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Boca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685800" cy="228600"/>
          </a:xfrm>
          <a:prstGeom prst="wedgeRectCallout">
            <a:avLst>
              <a:gd name="adj1" fmla="val 238888"/>
              <a:gd name="adj2" fmla="val -59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. Tarumã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981080"/>
            <a:ext cx="685800" cy="228600"/>
          </a:xfrm>
          <a:prstGeom prst="wedgeRectCallout">
            <a:avLst>
              <a:gd name="adj1" fmla="val 229166"/>
              <a:gd name="adj2" fmla="val -288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anta 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362320"/>
            <a:ext cx="914400" cy="228600"/>
          </a:xfrm>
          <a:prstGeom prst="wedgeRectCallout">
            <a:avLst>
              <a:gd name="adj1" fmla="val 162500"/>
              <a:gd name="adj2" fmla="val -4513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rixo S.Mat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743200"/>
            <a:ext cx="838080" cy="228600"/>
          </a:xfrm>
          <a:prstGeom prst="wedgeRectCallout">
            <a:avLst>
              <a:gd name="adj1" fmla="val 138634"/>
              <a:gd name="adj2" fmla="val -568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rixo Gra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314880"/>
            <a:ext cx="838080" cy="228600"/>
          </a:xfrm>
          <a:prstGeom prst="wedgeRectCallout">
            <a:avLst>
              <a:gd name="adj1" fmla="val 162500"/>
              <a:gd name="adj2" fmla="val -5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Lagoa Cáce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2133720" y="3200400"/>
            <a:ext cx="609480" cy="228600"/>
          </a:xfrm>
          <a:prstGeom prst="wedgeRectCallout">
            <a:avLst>
              <a:gd name="adj1" fmla="val 68750"/>
              <a:gd name="adj2" fmla="val -34722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ragua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581280"/>
            <a:ext cx="457200" cy="228600"/>
          </a:xfrm>
          <a:prstGeom prst="wedgeRectCallout">
            <a:avLst>
              <a:gd name="adj1" fmla="val 143750"/>
              <a:gd name="adj2" fmla="val -2305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1066680" y="3962520"/>
            <a:ext cx="533520" cy="228600"/>
          </a:xfrm>
          <a:prstGeom prst="wedgeRectCallout">
            <a:avLst>
              <a:gd name="adj1" fmla="val 485712"/>
              <a:gd name="adj2" fmla="val 52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ran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19720"/>
            <a:ext cx="533520" cy="228600"/>
          </a:xfrm>
          <a:prstGeom prst="wedgeRectCallout">
            <a:avLst>
              <a:gd name="adj1" fmla="val 517856"/>
              <a:gd name="adj2" fmla="val -143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uaç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800600"/>
            <a:ext cx="762120" cy="228600"/>
          </a:xfrm>
          <a:prstGeom prst="wedgeRectCallout">
            <a:avLst>
              <a:gd name="adj1" fmla="val 316250"/>
              <a:gd name="adj2" fmla="val -2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to. Antôn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1600200" y="5181480"/>
            <a:ext cx="609480" cy="228600"/>
          </a:xfrm>
          <a:prstGeom prst="wedgeRectCallout">
            <a:avLst>
              <a:gd name="adj1" fmla="val 354689"/>
              <a:gd name="adj2" fmla="val -2805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rugua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5410080"/>
            <a:ext cx="533520" cy="228600"/>
          </a:xfrm>
          <a:prstGeom prst="wedgeRectCallout">
            <a:avLst>
              <a:gd name="adj1" fmla="val 423212"/>
              <a:gd name="adj2" fmla="val 777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Quara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715000"/>
            <a:ext cx="914400" cy="228600"/>
          </a:xfrm>
          <a:prstGeom prst="wedgeRectCallout">
            <a:avLst>
              <a:gd name="adj1" fmla="val 268750"/>
              <a:gd name="adj2" fmla="val -18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Invern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019920"/>
            <a:ext cx="914400" cy="228600"/>
          </a:xfrm>
          <a:prstGeom prst="wedgeRectCallout">
            <a:avLst>
              <a:gd name="adj1" fmla="val 266666"/>
              <a:gd name="adj2" fmla="val -1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S. Lui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324480"/>
            <a:ext cx="533520" cy="228600"/>
          </a:xfrm>
          <a:prstGeom prst="wedgeRectCallout">
            <a:avLst>
              <a:gd name="adj1" fmla="val 491069"/>
              <a:gd name="adj2" fmla="val -1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1752480" y="6477120"/>
            <a:ext cx="609840" cy="228600"/>
          </a:xfrm>
          <a:prstGeom prst="wedgeRectCallout">
            <a:avLst>
              <a:gd name="adj1" fmla="val 351564"/>
              <a:gd name="adj2" fmla="val -15138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aguar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6629400"/>
            <a:ext cx="914400" cy="228600"/>
          </a:xfrm>
          <a:prstGeom prst="wedgeRectCallout">
            <a:avLst>
              <a:gd name="adj1" fmla="val 142708"/>
              <a:gd name="adj2" fmla="val -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S. Mig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volução Usos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éc. XIX: liberdade de naveg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éc. XX: produção de energi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l Séc. XX - início Séc. XXI: Usos Múltipl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Evolução do Direito Interna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23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e Genebra relativa à instalação de forças hidráulicas de interesse de vários Est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29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Sentença CPJI - caso O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75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Projeto de Princípios Referentes à Conduta dos Estados na Conservação e na Utilização de Recursos Naturais Compartilhados por dois ou mais Estados (PNU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e Helsinque para proteção e uso de cursos d’água transfronteiriços e lagos internacion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as Nações Unidas sobre o direito relativo às utilizações dos cursos d'água internacionais para fins outros que a naveg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volução 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de interesse de vários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internacional (contíguo/fronteiriço; contínuo/ sucess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utrina anglo-saxã (Oppenheim)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oundary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rio contíguo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n 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rio contínuo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(boundary river&amp;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n 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compartilhado / curso d’águ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transfronteiriço (&amp; fronteiriço – art. 39 § 2º Lei nº 9.433/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asil: abordagem + restritiva (doutrina Har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02:52:51Z</dcterms:created>
  <dc:creator>Compaq</dc:creator>
  <dc:description/>
  <dc:language>en-US</dc:language>
  <cp:lastModifiedBy>SRH</cp:lastModifiedBy>
  <dcterms:modified xsi:type="dcterms:W3CDTF">2005-02-03T16:04:27Z</dcterms:modified>
  <cp:revision>136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0988235</vt:r8>
  </property>
  <property fmtid="{D5CDD505-2E9C-101B-9397-08002B2CF9AE}" pid="3" name="_AuthorEmail">
    <vt:lpwstr>thierry@ana.gov.br</vt:lpwstr>
  </property>
  <property fmtid="{D5CDD505-2E9C-101B-9397-08002B2CF9AE}" pid="4" name="_AuthorEmailDisplayName">
    <vt:lpwstr>Jorge Thierry Calasans</vt:lpwstr>
  </property>
  <property fmtid="{D5CDD505-2E9C-101B-9397-08002B2CF9AE}" pid="5" name="_EmailSubject">
    <vt:lpwstr>Apresentações da 28ª CTGRHT</vt:lpwstr>
  </property>
</Properties>
</file>